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6.png" ContentType="image/png"/>
  <Override PartName="/ppt/media/image5.png" ContentType="image/png"/>
  <Override PartName="/ppt/media/image21.wmf" ContentType="image/x-wmf"/>
  <Override PartName="/ppt/media/image19.wmf" ContentType="image/x-wmf"/>
  <Override PartName="/ppt/media/image10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3054-C7C3-4E5D-A45D-74E421E2057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398484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A797AD-429F-418F-BCA1-600C719C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7792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246D-04C7-4398-8A00-934401EA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8948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88240" y="167652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8948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88240" y="3984840"/>
            <a:ext cx="237960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1728B-39F6-4FCF-A960-D3709D245C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F74211-ADFC-40B6-89F7-BE2D6A5E1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F2366-AC97-46C3-9BA3-8B88550A6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2BBB03-9302-4859-817F-D86C9ED86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96479-A071-4D8F-9C1A-E2C505CFD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762120"/>
            <a:ext cx="73911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092FA-6DD2-44F8-8343-7CB39FF7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AD10C-62C4-4BCE-BB44-9F5A398A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77920" y="398484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6ED0AB-4444-49A1-830E-91097A1C2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77920" y="1676520"/>
            <a:ext cx="360684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3984840"/>
            <a:ext cx="7391160" cy="21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ADD3C-EB59-44E9-87E9-945D9D34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177156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1771560" indent="-228600">
              <a:spcBef>
                <a:spcPts val="700"/>
              </a:spcBef>
              <a:buClr>
                <a:srgbClr val="ffff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0720" y="6172200"/>
            <a:ext cx="1676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743200" y="61722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8F4AC-3807-4104-B1E9-855D34912E79}" type="slidenum">
              <a:rPr b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147920" y="6129360"/>
            <a:ext cx="851400" cy="72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CR A Extended"/>
              </a:rPr>
              <a:t>mak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CR A Extended"/>
              </a:rPr>
              <a:t>bett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OCR A Extended"/>
              </a:rPr>
              <a:t>gam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gdc" descr=""/>
          <p:cNvPicPr/>
          <p:nvPr/>
        </p:nvPicPr>
        <p:blipFill>
          <a:blip r:embed="rId2"/>
          <a:stretch/>
        </p:blipFill>
        <p:spPr>
          <a:xfrm>
            <a:off x="6553080" y="76320"/>
            <a:ext cx="2311560" cy="434880"/>
          </a:xfrm>
          <a:prstGeom prst="rect">
            <a:avLst/>
          </a:prstGeom>
          <a:ln w="0">
            <a:noFill/>
          </a:ln>
        </p:spPr>
      </p:pic>
      <p:pic>
        <p:nvPicPr>
          <p:cNvPr id="6" name="stripe" descr=""/>
          <p:cNvPicPr/>
          <p:nvPr/>
        </p:nvPicPr>
        <p:blipFill>
          <a:blip r:embed="rId3"/>
          <a:stretch/>
        </p:blipFill>
        <p:spPr>
          <a:xfrm>
            <a:off x="0" y="0"/>
            <a:ext cx="6400800" cy="606600"/>
          </a:xfrm>
          <a:prstGeom prst="rect">
            <a:avLst/>
          </a:prstGeom>
          <a:ln w="0">
            <a:noFill/>
          </a:ln>
        </p:spPr>
      </p:pic>
      <p:pic>
        <p:nvPicPr>
          <p:cNvPr id="7" name="stripe" descr=""/>
          <p:cNvPicPr/>
          <p:nvPr/>
        </p:nvPicPr>
        <p:blipFill>
          <a:blip r:embed="rId4"/>
          <a:stretch/>
        </p:blipFill>
        <p:spPr>
          <a:xfrm>
            <a:off x="5029200" y="6251400"/>
            <a:ext cx="4114800" cy="6066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685800" y="6477120"/>
            <a:ext cx="77724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cs.unc.edu/~harrism/clouds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s.unc.edu/~harrism/clouds/index.html" TargetMode="External"/><Relationship Id="rId2" Type="http://schemas.openxmlformats.org/officeDocument/2006/relationships/hyperlink" Target="http://www.cs.unc.edu/~harrism/clouds/index.html" TargetMode="External"/><Relationship Id="rId3" Type="http://schemas.openxmlformats.org/officeDocument/2006/relationships/hyperlink" Target="http://www.cs.unc.edu/~harrism/clouds/index.html" TargetMode="External"/><Relationship Id="rId4" Type="http://schemas.openxmlformats.org/officeDocument/2006/relationships/hyperlink" Target="http://www.cs.unc.edu/~harrism/clouds/index.html" TargetMode="External"/><Relationship Id="rId5" Type="http://schemas.openxmlformats.org/officeDocument/2006/relationships/hyperlink" Target="http://www.cs.unc.edu/~harrism/clouds/index.html" TargetMode="External"/><Relationship Id="rId6" Type="http://schemas.openxmlformats.org/officeDocument/2006/relationships/hyperlink" Target="http://www.cs.unc.edu/~harrism/clouds/index.html" TargetMode="External"/><Relationship Id="rId7" Type="http://schemas.openxmlformats.org/officeDocument/2006/relationships/hyperlink" Target="http://www.cs.unc.edu/~harrism/clouds/index.html" TargetMode="External"/><Relationship Id="rId8" Type="http://schemas.openxmlformats.org/officeDocument/2006/relationships/hyperlink" Target="http://www.cs.unc.edu/~harrism/clouds/index.html" TargetMode="External"/><Relationship Id="rId9" Type="http://schemas.openxmlformats.org/officeDocument/2006/relationships/hyperlink" Target="http://www.cs.unc.edu/~harrism/clouds/index.html" TargetMode="External"/><Relationship Id="rId10" Type="http://schemas.openxmlformats.org/officeDocument/2006/relationships/hyperlink" Target="mailto:harrism@cs.unc.edu" TargetMode="External"/><Relationship Id="rId11" Type="http://schemas.openxmlformats.org/officeDocument/2006/relationships/hyperlink" Target="mailto:harrism@cs.unc.edu" TargetMode="External"/><Relationship Id="rId12" Type="http://schemas.openxmlformats.org/officeDocument/2006/relationships/hyperlink" Target="mailto:harrism@cs.unc.edu" TargetMode="External"/><Relationship Id="rId1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s.unc.edu/~harrism/clouds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1447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Real-Time Cloud 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Tahoma"/>
              </a:rPr>
              <a:t>Rendering for Games</a:t>
            </a:r>
            <a:endParaRPr b="1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733560" y="3123720"/>
            <a:ext cx="464796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Mark Harri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niversity of North Carolina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t Chapel Hi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oldwell" descr=""/>
          <p:cNvPicPr/>
          <p:nvPr/>
        </p:nvPicPr>
        <p:blipFill>
          <a:blip r:embed="rId1"/>
          <a:stretch/>
        </p:blipFill>
        <p:spPr>
          <a:xfrm>
            <a:off x="438120" y="2971800"/>
            <a:ext cx="3219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Real Cloud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cloudwithlabels" descr=""/>
          <p:cNvPicPr/>
          <p:nvPr/>
        </p:nvPicPr>
        <p:blipFill>
          <a:blip r:embed="rId1"/>
          <a:stretch/>
        </p:blipFill>
        <p:spPr>
          <a:xfrm>
            <a:off x="380880" y="1600200"/>
            <a:ext cx="8382240" cy="4437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 flipH="1">
            <a:off x="7772400" y="1981080"/>
            <a:ext cx="457200" cy="1447920"/>
          </a:xfrm>
          <a:prstGeom prst="line">
            <a:avLst/>
          </a:prstGeom>
          <a:ln cap="sq" w="63360">
            <a:solidFill>
              <a:srgbClr val="ffffff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rot="17284800">
            <a:off x="6848280" y="2395440"/>
            <a:ext cx="178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n Direc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Light-Matter Interac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typ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bsorp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ght energy is converted to another for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clouds, the result is self shadow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tt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ght energy is reradiat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n clouds, the result is bright white appeara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Multiple Light Scatter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Multiple Scatt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ttering from multiple particles in success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3" name="multiscatter" descr=""/>
          <p:cNvPicPr/>
          <p:nvPr/>
        </p:nvPicPr>
        <p:blipFill>
          <a:blip r:embed="rId1"/>
          <a:stretch/>
        </p:blipFill>
        <p:spPr>
          <a:xfrm>
            <a:off x="2514600" y="3276720"/>
            <a:ext cx="3881520" cy="181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Anisotropy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391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ouds do not scatter equally in all direction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Anisotropic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tt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rongest in forward dir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cattering Function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determines directional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cattering Func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6765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.k.a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hase Fun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p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etermines how much of incoming light scatters in given outgoing direc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8" name="scatteringfunction" descr=""/>
          <p:cNvPicPr/>
          <p:nvPr/>
        </p:nvPicPr>
        <p:blipFill>
          <a:blip r:embed="rId1"/>
          <a:stretch/>
        </p:blipFill>
        <p:spPr>
          <a:xfrm>
            <a:off x="990720" y="5486400"/>
            <a:ext cx="2361960" cy="1108080"/>
          </a:xfrm>
          <a:prstGeom prst="rect">
            <a:avLst/>
          </a:prstGeom>
          <a:ln w="0">
            <a:noFill/>
          </a:ln>
        </p:spPr>
      </p:pic>
      <p:pic>
        <p:nvPicPr>
          <p:cNvPr id="79" name="mie" descr=""/>
          <p:cNvPicPr/>
          <p:nvPr/>
        </p:nvPicPr>
        <p:blipFill>
          <a:blip r:embed="rId2"/>
          <a:stretch/>
        </p:blipFill>
        <p:spPr>
          <a:xfrm>
            <a:off x="3071880" y="3578400"/>
            <a:ext cx="553860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Light Scattering in Cloud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n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2" name="ShockwaveFlash1"/>
          <p:cNvGraphicFramePr/>
          <p:nvPr/>
        </p:nvGraphicFramePr>
        <p:xfrm>
          <a:off x="609480" y="609480"/>
          <a:ext cx="79250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609480"/>
                    <a:ext cx="7925040" cy="5639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Multiple Forward Scatter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nima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86" name="ShockwaveFlash1"/>
          <p:cNvGraphicFramePr/>
          <p:nvPr/>
        </p:nvGraphicFramePr>
        <p:xfrm>
          <a:off x="533520" y="609480"/>
          <a:ext cx="79246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7924680" cy="556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Math Simplifica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attering integral reduces to frame buffer blending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n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0" name="ShockwaveFlash1"/>
          <p:cNvGraphicFramePr/>
          <p:nvPr/>
        </p:nvGraphicFramePr>
        <p:xfrm>
          <a:off x="533520" y="609480"/>
          <a:ext cx="83818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8381880" cy="5639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hading Algorithm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resent clouds with a particle syste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ypically 1-5k particles ea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phas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process to compute particle illumin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hading takes about 0.2-1.0 s per clou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un-time portion to render clou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ender many clouds at fast interactive rat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Who and Why?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o am I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h.D. student at UNC-C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ssertation research on cloud render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ased on our paper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arris, M. and A. Lastra,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Real-Time Cloud Rendering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Eurographics 2001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hy Cloud Rendering?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s really coo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ummer internship at iROCK Games turned into a research top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Algorithm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n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8" name="ShockwaveFlash1"/>
          <p:cNvGraphicFramePr/>
          <p:nvPr/>
        </p:nvGraphicFramePr>
        <p:xfrm>
          <a:off x="380880" y="609480"/>
          <a:ext cx="838224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609480"/>
                    <a:ext cx="8382240" cy="5639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Rendering (run-time) Algorithm</a:t>
            </a:r>
            <a:endParaRPr b="1" lang="en-US" sz="3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ery similar to preprocess with minor chang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ticles rendered from back to front w.r.t viewpoi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 read back: use precomputed valu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ply particle colors by phase fun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53000" indent="-221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mulates anisotropic scatter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nisotropic" descr=""/>
          <p:cNvPicPr/>
          <p:nvPr/>
        </p:nvPicPr>
        <p:blipFill>
          <a:blip r:embed="rId1">
            <a:lum contrast="12000"/>
          </a:blip>
          <a:stretch/>
        </p:blipFill>
        <p:spPr>
          <a:xfrm>
            <a:off x="457200" y="3962520"/>
            <a:ext cx="4191120" cy="2192040"/>
          </a:xfrm>
          <a:prstGeom prst="rect">
            <a:avLst/>
          </a:prstGeom>
          <a:ln w="0">
            <a:noFill/>
          </a:ln>
        </p:spPr>
      </p:pic>
      <p:pic>
        <p:nvPicPr>
          <p:cNvPr id="103" name="isotropic" descr=""/>
          <p:cNvPicPr/>
          <p:nvPr/>
        </p:nvPicPr>
        <p:blipFill>
          <a:blip r:embed="rId2">
            <a:lum contrast="12000"/>
          </a:blip>
          <a:stretch/>
        </p:blipFill>
        <p:spPr>
          <a:xfrm>
            <a:off x="457200" y="1770120"/>
            <a:ext cx="4191120" cy="21924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Anisotropic Scatter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7960" y="18288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attering func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ght &amp; view directions determine intensity of scatter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View-depend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lver lining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unset color variations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2819160" y="403848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isotrop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1981080"/>
            <a:ext cx="113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sotrop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loud Imposto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2440" y="1981080"/>
            <a:ext cx="836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blem: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ing many particles requires high fill 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lution: Impostor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place object with image of the objec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age only updated when necessar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Imposto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n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14" name="ShockwaveFlash1"/>
          <p:cNvGraphicFramePr/>
          <p:nvPr/>
        </p:nvGraphicFramePr>
        <p:xfrm>
          <a:off x="304920" y="609480"/>
          <a:ext cx="8610480" cy="556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09480"/>
                    <a:ext cx="8610480" cy="556272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Impostor Resolut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error metric: resolu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pdate texture whe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 lower res. if viewpoint inside clou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oud is “foggy” so hides artifac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use 4-64x fewer pixels with little effect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1295280" y="2819520"/>
                <a:ext cx="7086600" cy="93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exture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esolution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creen</m:t>
                        </m:r>
                      </m:sub>
                    </m:sSub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loud</m:t>
                        </m:r>
                        <m:r>
                          <m:rPr>
                            <m:lit/>
                            <m:nor/>
                          </m:rPr>
                          <m:t xml:space="preserve">siz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loud</m:t>
                        </m:r>
                        <m:r>
                          <m:rPr>
                            <m:lit/>
                            <m:nor/>
                          </m:rPr>
                          <m:t xml:space="preserve">distanc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creen Impostor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jected cloud larger than window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r viewpoint inside clou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er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screen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st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stead of world space imposto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n use lower res. impostor ima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Interacting with Cloud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Object passing through a cloud: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lying through billboards doesn’t look right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Use “Impostor Splitting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3" name="impostorsplitting" descr=""/>
          <p:cNvPicPr/>
          <p:nvPr/>
        </p:nvPicPr>
        <p:blipFill>
          <a:blip r:embed="rId1"/>
          <a:stretch/>
        </p:blipFill>
        <p:spPr>
          <a:xfrm>
            <a:off x="5638680" y="3048120"/>
            <a:ext cx="310860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Impostor Splitt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lash Anim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26" name="ShockwaveFlash1"/>
          <p:cNvGraphicFramePr/>
          <p:nvPr/>
        </p:nvGraphicFramePr>
        <p:xfrm>
          <a:off x="228600" y="609480"/>
          <a:ext cx="8610480" cy="563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609480"/>
                    <a:ext cx="8610480" cy="56390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Realism For Simulated Fligh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98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mes and flight sims need better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ky textures and cloud plane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t truly 3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ck realistic illumination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2" name="gameshots" descr=""/>
          <p:cNvPicPr/>
          <p:nvPr/>
        </p:nvPicPr>
        <p:blipFill>
          <a:blip r:embed="rId1"/>
          <a:stretch/>
        </p:blipFill>
        <p:spPr>
          <a:xfrm>
            <a:off x="298440" y="1905120"/>
            <a:ext cx="358776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Video: Impostors 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217520" y="2819520"/>
            <a:ext cx="695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</a:t>
            </a:r>
            <a:r>
              <a:rPr b="0" lang="en-US" sz="2400" spc="-1" strike="noStrike" u="sng">
                <a:solidFill>
                  <a:srgbClr val="93097c"/>
                </a:solidFill>
                <a:uFillTx/>
                <a:latin typeface="Tahoma"/>
                <a:hlinkClick r:id="rId1"/>
              </a:rPr>
              <a:t>http://www.cs.unc.edu/~harrism/clou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, video, demos, and m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cene Managemen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ostors make rendering fa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ut impostor splitting complicates scene management.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ouds are unlike most objec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quire special handling to correctly resolve visibility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ceneManager::Visibility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8483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ach Fram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form VFC on all objects and cloud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each object not cull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termine if object is contained in a clou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so, add it to cloud’s list of contained object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Otherwise add it to the scene’s visible object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lis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or each visible (unculled) cloud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f (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contains objects) determine the split poin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pdate impostor for C (split if contains objects)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dd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C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o the scene’s visible object lis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rt scene’s visible object list from back to front.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ceneManager::Display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all objects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O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in visible object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If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s a cloud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f (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contains object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42960" indent="-342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back of split impost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42960" indent="-342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all objects contained in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542960" indent="-34272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Display front of split impost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238400" indent="-38124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else display normal impos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peed / Quality Tun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ral parameters to tweak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mpostor angle error tolera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er = higher performa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er = less image “popping”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ximum impostor resolu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ower = lower fill rate cos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igher = higher image qualit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ut only true up to particle resolution!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arge, fuzzy particles allow lower-res impostor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peed / Quality Tun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ort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n fast GPUs, may be CPU boun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Limited by the speed of particle sor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a “sort error tolerance”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Only resort particles when view direction has changed more than the toleran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eatly reduces CPU h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rtually no loss in quality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ynamic Texture manager is a MUST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reating Cloud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wo options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mul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fficult to implement, but automatic!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ossibly slow, iterative process to get good cloud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odeling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ives artists / level designers full contro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ot sure of the best editing interfac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ull filling”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428840" indent="-2286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D Spray paint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Goal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listic clouds in a complex gam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ationally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expens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umetri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istic fly-through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isti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ighting: self-shadows and scatt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ssumption: static cloud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ecompute illumin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90360" y="1676160"/>
            <a:ext cx="7391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ould work well with most current PC setup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ends on scene, camera movemen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Force 2 graphics or better (32MB+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4572000"/>
            <a:ext cx="403848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143000" y="3657600"/>
            <a:ext cx="6934320" cy="215748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0-50 clouds (60-150k particles)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097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93097c"/>
                </a:solidFill>
                <a:latin typeface="Tahoma"/>
              </a:rPr>
              <a:t>70-200 fps on P3 w/ GeForce 3 or Radeon 8500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5 clouds (90k particles), 64k Tri Terrain, 11k Tri Airplan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097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93097c"/>
                </a:solidFill>
                <a:latin typeface="Tahoma"/>
              </a:rPr>
              <a:t>60-160 fps on P4 w/ GeForce 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200+ clouds, ~4M particles (!!!):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3097c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93097c"/>
                </a:solidFill>
                <a:latin typeface="Tahoma"/>
              </a:rPr>
              <a:t>30-150 fps on P4 w/ GeForce 4!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al-time cloud render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olumetric clouds for games and flight simulator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t shading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ultiple forward scattering and self-shadow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isotropic scattering and skylight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st run-time performance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se impostors to accelerate renderi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Future Wor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30592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mulation of dynamic phenomen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oud formation, thunder storms, etc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mproved cloud modeling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riety of cloud type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tter use of texturing for varied effec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ther phenomena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bulae, smoke, dust, volcanic ash, etc.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Acknowledgement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onsors: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ROCK Interactiv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VIDIA Corpo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S. NIH National Center for Research Resourc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S. Department of Energy ASCI program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elping Hands and Minds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VIDIA Developer Relations (John Spitzer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et al.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son Mitchell, ATI Technologie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nselmo Lastra, Andrew Zaferakis, Wes Hunt,  the EVE group, all the rest at UNC-CH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DC Staff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990720" y="914400"/>
            <a:ext cx="7391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Live Demo</a:t>
            </a:r>
            <a:endParaRPr b="0" lang="en-US" sz="3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990720" y="1752480"/>
            <a:ext cx="76197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kyWork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monstrates all the techniques discussed h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ree source code available soon!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nd it he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1"/>
              </a:rPr>
              <a:t>http://www.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2"/>
              </a:rPr>
              <a:t>cs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3"/>
              </a:rPr>
              <a:t>.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4"/>
              </a:rPr>
              <a:t>unc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5"/>
              </a:rPr>
              <a:t>.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6"/>
              </a:rPr>
              <a:t>edu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7"/>
              </a:rPr>
              <a:t>/~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8"/>
              </a:rPr>
              <a:t>harrism</a:t>
            </a:r>
            <a:r>
              <a:rPr b="1" lang="en-US" sz="2000" spc="-1" strike="noStrike" u="sng">
                <a:solidFill>
                  <a:srgbClr val="93097c"/>
                </a:solidFill>
                <a:uFillTx/>
                <a:latin typeface="Tahoma"/>
                <a:hlinkClick r:id="rId9"/>
              </a:rPr>
              <a:t>/cloud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434340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Questions?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360" y="5257800"/>
            <a:ext cx="73911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93097c"/>
                </a:solidFill>
                <a:uFillTx/>
                <a:latin typeface="Tahoma"/>
                <a:hlinkClick r:id="rId10"/>
              </a:rPr>
              <a:t>harrism</a:t>
            </a:r>
            <a:r>
              <a:rPr b="1" lang="en-US" sz="2400" spc="-1" strike="noStrike" u="sng">
                <a:solidFill>
                  <a:srgbClr val="93097c"/>
                </a:solidFill>
                <a:uFillTx/>
                <a:latin typeface="Tahoma"/>
                <a:hlinkClick r:id="rId11"/>
              </a:rPr>
              <a:t>@cs.unc.</a:t>
            </a:r>
            <a:r>
              <a:rPr b="1" lang="en-US" sz="2400" spc="-1" strike="noStrike" u="sng">
                <a:solidFill>
                  <a:srgbClr val="93097c"/>
                </a:solidFill>
                <a:uFillTx/>
                <a:latin typeface="Tahoma"/>
                <a:hlinkClick r:id="rId12"/>
              </a:rPr>
              <a:t>edu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Extra Slides…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6" name=""/>
          <p:cNvGraphicFramePr/>
          <p:nvPr/>
        </p:nvGraphicFramePr>
        <p:xfrm>
          <a:off x="0" y="685800"/>
          <a:ext cx="9144000" cy="5638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85800"/>
                    <a:ext cx="914400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8" name=""/>
          <p:cNvSpPr/>
          <p:nvPr/>
        </p:nvSpPr>
        <p:spPr>
          <a:xfrm>
            <a:off x="1600200" y="11430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1024x768 window. Renderer followed a recorded path through the clouds.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Computing Scattering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001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e know: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scattering coeff. / extinction coeff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 modulates incident intensit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o at each particle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cattere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i="1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i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1" i="1" lang="en-US" sz="4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nciden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Where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I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 = light intens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Albedo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centage of extinction due to scattering.</a:t>
            </a: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bedo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= scattered power / incident power </a:t>
            </a:r>
            <a:br>
              <a:rPr sz="3200"/>
            </a:b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= scattering coeff. / extinction coeff.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Video: Flying Through Cloud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"/>
          <p:cNvSpPr/>
          <p:nvPr/>
        </p:nvSpPr>
        <p:spPr>
          <a:xfrm>
            <a:off x="1217520" y="2819520"/>
            <a:ext cx="6956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</a:t>
            </a:r>
            <a:r>
              <a:rPr b="0" lang="en-US" sz="2400" spc="-1" strike="noStrike" u="sng">
                <a:solidFill>
                  <a:srgbClr val="93097c"/>
                </a:solidFill>
                <a:uFillTx/>
                <a:latin typeface="Tahoma"/>
                <a:hlinkClick r:id="rId1"/>
              </a:rPr>
              <a:t>http://www.cs.unc.edu/~harrism/clouds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 f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, video, demos, and mo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Nasty Math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ght at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= transmitted + scattere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mplete integral equa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8a09"/>
                </a:solidFill>
                <a:latin typeface="Tahoma"/>
              </a:rPr>
              <a:t>CPU: “eek!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8a09"/>
                </a:solidFill>
                <a:latin typeface="Tahoma"/>
              </a:rPr>
              <a:t>GPU:”yikes!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600200" y="3048120"/>
          <a:ext cx="6705720" cy="143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048120"/>
                    <a:ext cx="6705720" cy="143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implify the Nasty Math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rst convert to discrete for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etter: just requires lots of ite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8a09"/>
                </a:solidFill>
                <a:latin typeface="Tahoma"/>
              </a:rPr>
              <a:t>CPU: “OK!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f8a09"/>
                </a:solidFill>
                <a:latin typeface="Tahoma"/>
              </a:rPr>
              <a:t>GPU: “i dunno…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28800" y="2209680"/>
          <a:ext cx="6400800" cy="149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09680"/>
                    <a:ext cx="6400800" cy="14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implify the Nasty Math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t don’t stop there!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n convert into recurrence equation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unny, that looks familiar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1447920" y="2997360"/>
          <a:ext cx="6400800" cy="1422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997360"/>
                    <a:ext cx="6400800" cy="1422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What Nasty Math?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currence looks familiar…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attering Recurrence: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rame Buffer Blending: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9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f8a09"/>
                </a:solidFill>
                <a:latin typeface="Tahoma"/>
              </a:rPr>
              <a:t>GPU</a:t>
            </a:r>
            <a:r>
              <a:rPr b="1" lang="en-US" sz="2800" spc="-1" strike="noStrike">
                <a:solidFill>
                  <a:srgbClr val="ef8a09"/>
                </a:solidFill>
                <a:latin typeface="Tahoma"/>
              </a:rPr>
              <a:t>: “Yee Haw!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343836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2666880" y="4191120"/>
          <a:ext cx="533412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4191120"/>
                    <a:ext cx="5334120" cy="792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4114800" y="2708280"/>
          <a:ext cx="3886200" cy="720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2708280"/>
                    <a:ext cx="3886200" cy="7207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Skylight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lace light sources around sk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hade once from each light sour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skylight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7715160" cy="32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Basic Technique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odel clouds with particl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nder via “splatting”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raw each particle as a texture billboar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o we compute realistic lighting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ow do we render them fast enough?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Two Big Challenges</a:t>
            </a: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ccurate illumination is expensiv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igh depth complex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ing many layers or particles requires high fill rat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360" y="16765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icient 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762120"/>
            <a:ext cx="73911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ahoma"/>
              </a:rPr>
              <a:t>Overview of Talk</a:t>
            </a:r>
            <a:endParaRPr b="1" lang="en-US" sz="3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ckgroun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llumination algorithm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ynamically generated imposto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cene manag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erformance/quality tradeoff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reating cloud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sults, conclusion, etc.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ve demo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k Harris</cp:lastModifiedBy>
  <dcterms:modified xsi:type="dcterms:W3CDTF">2002-03-29T02:30:12Z</dcterms:modified>
  <cp:revision>123</cp:revision>
  <dc:subject/>
  <dc:title>PowerPoint Presentation</dc:title>
</cp:coreProperties>
</file>